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82A-AAEA-4B5E-AA37-E1CA4343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505-DF68-4043-BC2C-6C143AEE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DF2-AE3D-4F74-9226-5574B5A3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370-0860-4EE4-80AE-B1268BB4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5D7-C9F6-4F14-B058-12F34645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CE8-7661-4D61-8710-E6F139E9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790-4AA1-4CB5-ADD3-013CA9E2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1E9-A1FD-40EE-A661-F339CA9F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F46-5660-4DE5-BD15-75AC1444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029-93DF-48D7-90FA-C21BA9F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383-0743-4A20-B029-43623E4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D91-B011-4C96-BFA7-79EBEEE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612-0F63-4B54-94DE-3FB6CB1A253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Arial"/>
              </a:rPr>
              <a:t>Les fruits et les légu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5440" cy="22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989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820400">
            <a:off x="6227280" y="620280"/>
            <a:ext cx="2536920" cy="15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262160" cy="118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6840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24360" y="549360"/>
            <a:ext cx="151272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284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mm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champignon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7600" y="1916280"/>
            <a:ext cx="404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hou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 céler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9820400">
            <a:off x="2626920" y="2565000"/>
            <a:ext cx="5202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framboise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3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une poi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597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7200" spc="-1" strike="noStrike">
                <a:solidFill>
                  <a:srgbClr val="ccffff"/>
                </a:solidFill>
                <a:latin typeface="Arial"/>
              </a:rPr>
              <a:t>des poi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990800"/>
            <a:ext cx="45370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16:31Z</dcterms:created>
  <dc:creator>Martine Peters</dc:creator>
  <dc:description/>
  <dc:language>en-US</dc:language>
  <cp:lastModifiedBy>UQAM</cp:lastModifiedBy>
  <dcterms:modified xsi:type="dcterms:W3CDTF">2007-11-04T02:25:31Z</dcterms:modified>
  <cp:revision>7</cp:revision>
  <dc:subject/>
  <dc:title>Les fruits et les légumes</dc:title>
</cp:coreProperties>
</file>